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92884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280" y="-27000"/>
            <a:ext cx="80010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6792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8680"/>
            <a:ext cx="250236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280" y="-27000"/>
            <a:ext cx="80010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868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67920"/>
            <a:ext cx="37926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8680"/>
            <a:ext cx="7772400" cy="25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90792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00280" y="3240"/>
            <a:ext cx="838008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ross-platform" TargetMode="External"/><Relationship Id="rId2" Type="http://schemas.openxmlformats.org/officeDocument/2006/relationships/hyperlink" Target="http://en.wikipedia.org/wiki/Programming_language" TargetMode="External"/><Relationship Id="rId3" Type="http://schemas.openxmlformats.org/officeDocument/2006/relationships/hyperlink" Target="http://en.wikipedia.org/wiki/Object_(computer_science)" TargetMode="External"/><Relationship Id="rId4" Type="http://schemas.openxmlformats.org/officeDocument/2006/relationships/hyperlink" Target="http://en.wikipedia.org/wiki/HTML" TargetMode="External"/><Relationship Id="rId5" Type="http://schemas.openxmlformats.org/officeDocument/2006/relationships/hyperlink" Target="http://en.wikipedia.org/wiki/XHTML" TargetMode="External"/><Relationship Id="rId6" Type="http://schemas.openxmlformats.org/officeDocument/2006/relationships/hyperlink" Target="http://en.wikipedia.org/wiki/XML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www.tutorialspoint.com/jquery/jquery-selectors.ht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tutorialspoint.com/jquery/jquery-utilities.ht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tutorialspoint.com/jquery/jquery-css.htm" TargetMode="External"/><Relationship Id="rId2" Type="http://schemas.openxmlformats.org/officeDocument/2006/relationships/hyperlink" Target="https://www.tutorialspoint.com/jquery/jquery-dom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tutorialspoint.com/jquery/jquery-events.htm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s://www.tutorialspoint.com/jquery/jquery-effects.htm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s://www.tutorialspoint.com/jquery/jquery-plugins.htm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www.tutorialspoint.com/jquery/jquery-slidebar.htm" TargetMode="External"/><Relationship Id="rId2" Type="http://schemas.openxmlformats.org/officeDocument/2006/relationships/hyperlink" Target="https://www.tutorialspoint.com/jquery/jquery-slideshow.htm" TargetMode="External"/><Relationship Id="rId3" Type="http://schemas.openxmlformats.org/officeDocument/2006/relationships/hyperlink" Target="http://www.isquery.com/devel/jqueryinaction/second/chapter7/photomatic/photomatic.html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s://www.tutorialspoint.com/jquery/widget-accordion.htm" TargetMode="External"/><Relationship Id="rId2" Type="http://schemas.openxmlformats.org/officeDocument/2006/relationships/hyperlink" Target="https://www.tutorialspoint.com/jquery/widget-autocomplete.htm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ohn_Resig" TargetMode="External"/><Relationship Id="rId2" Type="http://schemas.openxmlformats.org/officeDocument/2006/relationships/hyperlink" Target="http://en.wikipedia.org/wiki/JavaScript_library" TargetMode="External"/><Relationship Id="rId3" Type="http://schemas.openxmlformats.org/officeDocument/2006/relationships/hyperlink" Target="http://en.wikipedia.org/wiki/JavaScript" TargetMode="External"/><Relationship Id="rId4" Type="http://schemas.openxmlformats.org/officeDocument/2006/relationships/hyperlink" Target="http://en.wikipedia.org/wiki/HTML" TargetMode="External"/><Relationship Id="rId5" Type="http://schemas.openxmlformats.org/officeDocument/2006/relationships/hyperlink" Target="http://en.wikipedia.org/wiki/Free_and_open_source_software" TargetMode="External"/><Relationship Id="rId6" Type="http://schemas.openxmlformats.org/officeDocument/2006/relationships/hyperlink" Target="http://en.wikipedia.org/wiki/Dual-licensing" TargetMode="External"/><Relationship Id="rId7" Type="http://schemas.openxmlformats.org/officeDocument/2006/relationships/hyperlink" Target="http://en.wikipedia.org/wiki/MIT_License" TargetMode="External"/><Relationship Id="rId8" Type="http://schemas.openxmlformats.org/officeDocument/2006/relationships/hyperlink" Target="http://en.wikipedia.org/wiki/GNU_General_Public_License" TargetMode="External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query.com/" TargetMode="External"/><Relationship Id="rId2" Type="http://schemas.openxmlformats.org/officeDocument/2006/relationships/hyperlink" Target="http://www.jquery.com/" TargetMode="External"/><Relationship Id="rId3" Type="http://schemas.openxmlformats.org/officeDocument/2006/relationships/hyperlink" Target="http://www.visualjquery.com/" TargetMode="External"/><Relationship Id="rId4" Type="http://schemas.openxmlformats.org/officeDocument/2006/relationships/hyperlink" Target="http://www.jqueryfordesigners.com/" TargetMode="External"/><Relationship Id="rId5" Type="http://schemas.openxmlformats.org/officeDocument/2006/relationships/hyperlink" Target="http://www.gscottolson.com/weblog/" TargetMode="External"/><Relationship Id="rId6" Type="http://schemas.openxmlformats.org/officeDocument/2006/relationships/hyperlink" Target="http://www.javascripttoolbox.com/jquery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Introduction to jQuery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iuseppe Attard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niversità di Pi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788000" y="6308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ome slides from: BreadFi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-2405160" y="2722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5 Things jQuery Provid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DOM (Document Object Model) elements on a page – one element or a group of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properties of DOM elements, in groups (“Find something, do something with it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, deletes, shows, hides DOM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event behavior on a page (click, mouse movement, dynamic styles, animations, dynamic cont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 ca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DO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bject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Query is “DOM scripting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rarchal structure of a web p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dd and subtract DOM elements on the f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hange the properties and contents of DOM elements on the f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DO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cross-platfor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languag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independent convention for representing and interacting with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object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in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5"/>
              </a:rPr>
              <a:t>X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6"/>
              </a:rPr>
              <a:t>X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documents. Aspects of the DOM (such as its "Elements") may be addressed and manipulated within the syntax of the programming language in use.”  Wikiped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DOM_Tree"/>
          <p:cNvPicPr/>
          <p:nvPr/>
        </p:nvPicPr>
        <p:blipFill>
          <a:blip r:embed="rId7"/>
          <a:stretch/>
        </p:blipFill>
        <p:spPr>
          <a:xfrm>
            <a:off x="1295280" y="2895480"/>
            <a:ext cx="62485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jQuery Fun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Query() = $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(func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Ready” hand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(‘selector’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selector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(elemen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element(s) direct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(‘HTML’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.function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a jQuery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.fn.myfunc(){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jQuery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Ready Fun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 basic HTML page and add jQu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“ready”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a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ways to specify the ready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query(document).ready(function(){…};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query().ready(function(){…};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query(function(){…};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query(dofunc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dofunc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Selecting Elements - Creating a “wrapped set”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74640" y="1066680"/>
            <a:ext cx="84693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(selecto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o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#id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of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.class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.class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&gt; elements having the CSS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:first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:last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:odd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:even’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:eq(2)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p&gt; element (1 bas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’)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p&gt; element (0 bas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:nth-child(3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 the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p&gt; element of its par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:nth-child(odd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 the odd &lt;p&gt; element of its par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:nth-child(5n+1)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 th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ment after every 5th 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 a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&gt; elements, descended from a &lt;p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&gt;a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&gt; elements, direct child of a &lt;p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+a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&gt; elements, directly following a &lt;p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, a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&gt; and &lt;a&gt;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li:has(ul)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i&gt; elements that have at least one &lt;ul&gt; desc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:not(p)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elements but &lt;p&gt;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:hidden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&lt;p&gt; elements that are hid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(‘p:empty’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&gt; elements that have no child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lectors Liv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s://www.tutorialspoint.com/jquery/jquery-selectors.ht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electing Elements, cont.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44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62440" indent="-2962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img’[alt]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mg&gt; elements having an alt attrib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62440" indent="-2962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a’[href^=http://]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&gt; elements with an href attribute starting with ‘http://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62440" indent="-2962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a’[href$=.pdf]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&gt; elements with an href attribute ending with ‘.pdf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62440" indent="-2962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a’[href*=ntpcug]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&gt; elements with an href attribute containing ‘ntpcug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62440" indent="-29624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62440" indent="-29624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Useful jQuery Functions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1426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each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rate over the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iz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elements in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end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ts to the previous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get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just the nth element (0 bas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eq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just the nth element (0 based) also .lt(n) &amp; .gt(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lice(n,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only nth to (m-1)th el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not(‘p’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include ‘p’ elements in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add(‘p’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&lt;p&gt; elements to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remove(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 all the elements from the page D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empty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 the contents of all the el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filter(fn/se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s elements where the func returns true or 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find(selecto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s elements meeting the selector crite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aren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the parent of each element in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childre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all the children of each element in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nex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next element of each element in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rev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previous element of each element in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siblings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all the siblings of the current el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s://www.tutorialspoint.com/jquery/jquery-utilities.h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Formatting Element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css(property, valu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s://www.tutorialspoint.com/jquery/jquery-css.h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html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https://www.tutorialspoint.com/jquery/jquery-dom.h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m elemen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text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addClass(‘class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removeClass(‘class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avaScrip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295280"/>
            <a:ext cx="736776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 script language interpreted by brows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OOP (prototype based, not class based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ynamic ty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un-time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dd Page Elem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4280" y="1295280"/>
            <a:ext cx="8317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#target’).before(‘&lt;p&gt;Inserted before #target&lt;/p&gt;’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#target’).after(‘&lt;p&gt;This is added after #target&lt;/p&gt;’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#target’).append(‘&lt;p&gt;Goes inside #target, at end&lt;/p&gt;’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#target’).wrap(‘&lt;div&gt;&lt;/div&gt;’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dding Ev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over events – bind, hover, togg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on click ev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stro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vent Backgroun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 Level 2 Event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event handlers, or listeners, can be established on an e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handlers cannot be relied upon to run an any particular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iggered, the event propagates from the top down (capture phase) or bottom up (bubble pha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doesn’t support the “capture phas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sic Syntax of Event Bind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img’).bind(‘click’, function(event){alert(‘Howdy’;}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img’).bind(‘click’, imgclick(event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unbinding the 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img’).unbind(‘click’, imgclick(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img’).unbind(‘click’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img’).one(‘click’, imgclick(event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orks o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img’).click(imgcli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img’).toggle(click1, click2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(‘img’).hover(mouseover, mouseout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s://www.tutorialspoint.com/jquery/jquery-events.h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lement Properties – “this”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tag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att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s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class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tit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form eleme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vent’ propert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.targ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 to element triggering ev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.target.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of element triggering ev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.currentTarg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.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event trigge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.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parm in the bind() fun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mouse coordinate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keystroke related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vent Method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84600" indent="-2784600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stopPropagation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ubb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4600" indent="-2784600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reventDefault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&lt;a&gt; link, no &lt;form&gt; sub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4600" indent="-2784600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trigger(eventTyp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actually trigger the event, but calls the appropriate function specified as the one tied to the event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4600" indent="-2784600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lick(), blur(), focus(), select(), submit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5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o parameter, invokes the event handlers, like trigger does, for all the elements in the wrapped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4600" indent="-278460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hortcut Event Bind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click(fun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submit(fun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dblclick(fun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mouseover(fun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mouseout(fun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select(fun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seful Event Func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2189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043080" indent="-3043080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hid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:n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3080" indent="-3043080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show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: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3080" indent="-3043080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toggle(func1, func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lick calls func1, next click executes fun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3080" indent="-3043080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hover(over, ou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over, mouse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3080" indent="-3043080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3080" indent="-3043080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s://www.tutorialspoint.com/jquery/jquery-effects.h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s of Ev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city of pi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ver1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ver using .b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a D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tripe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highligh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psible.list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able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.effect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avaScrip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94800" y="1218960"/>
            <a:ext cx="7788600" cy="51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annot access host computer (except cooki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ame origin poli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on-persist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annot access history ob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annot write the value of file upload f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ther examp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stri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L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.NET Grid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tending jQue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jQuery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s://www.tutorialspoint.com/jquery/jquery-plugins.ht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Query Plugins (UI Library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r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s://www.tutorialspoint.com/jquery/jquery-slidebar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ousel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https://www.tutorialspoint.com/jquery/jquery-slideshow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matic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http://www.isquery.com/devel/jqueryinaction/second/chapter7/photomatic/photomatic.htm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idge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0663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Accord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 to collapse the content, that is broken into logical section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Autocomple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 to provides the suggestions while you type into the fiel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epick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to open an interactive calendar in a small overla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essb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shows the progress informatio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b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used to swap between content that is broken into logical section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Cor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94800" y="1218960"/>
            <a:ext cx="7788600" cy="51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jQuery(selector, [ context ]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: Accepts a string containing a CSS selector which is then used to match a set of elements and returns a jQuery objec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Query(elem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Query(elementArra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Query(jQuery obje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Query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an be written as $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Ev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5640" y="1383840"/>
            <a:ext cx="7716960" cy="11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ready(handler) : execute handler when the DOM is fully load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4"/>
          <p:cNvGrpSpPr/>
          <p:nvPr/>
        </p:nvGrpSpPr>
        <p:grpSpPr>
          <a:xfrm>
            <a:off x="638280" y="2363760"/>
            <a:ext cx="3599640" cy="2950560"/>
            <a:chOff x="638280" y="2363760"/>
            <a:chExt cx="3599640" cy="2950560"/>
          </a:xfrm>
        </p:grpSpPr>
        <p:grpSp>
          <p:nvGrpSpPr>
            <p:cNvPr id="157" name="Group 35"/>
            <p:cNvGrpSpPr/>
            <p:nvPr/>
          </p:nvGrpSpPr>
          <p:grpSpPr>
            <a:xfrm>
              <a:off x="638280" y="2588400"/>
              <a:ext cx="3599640" cy="2725920"/>
              <a:chOff x="638280" y="2588400"/>
              <a:chExt cx="3599640" cy="2725920"/>
            </a:xfrm>
          </p:grpSpPr>
          <p:sp>
            <p:nvSpPr>
              <p:cNvPr id="158" name="AutoShape 36"/>
              <p:cNvSpPr/>
              <p:nvPr/>
            </p:nvSpPr>
            <p:spPr>
              <a:xfrm>
                <a:off x="638280" y="2588400"/>
                <a:ext cx="3588480" cy="208944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3477a4"/>
                  </a:gs>
                  <a:gs pos="100000">
                    <a:srgbClr val="4e91d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AutoShape 37"/>
              <p:cNvSpPr/>
              <p:nvPr/>
            </p:nvSpPr>
            <p:spPr>
              <a:xfrm>
                <a:off x="693720" y="2594160"/>
                <a:ext cx="3480840" cy="2050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0d4f2"/>
                  </a:gs>
                  <a:gs pos="100000">
                    <a:srgbClr val="3ca1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AutoShape 38"/>
              <p:cNvSpPr/>
              <p:nvPr/>
            </p:nvSpPr>
            <p:spPr>
              <a:xfrm>
                <a:off x="722520" y="4104000"/>
                <a:ext cx="3432960" cy="518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d4f2">
                      <a:alpha val="0"/>
                    </a:srgbClr>
                  </a:gs>
                  <a:gs pos="100000">
                    <a:srgbClr val="8fd9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AutoShape 39"/>
              <p:cNvSpPr/>
              <p:nvPr/>
            </p:nvSpPr>
            <p:spPr>
              <a:xfrm>
                <a:off x="722520" y="2610360"/>
                <a:ext cx="3432960" cy="518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/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AutoShape 40"/>
              <p:cNvSpPr/>
              <p:nvPr/>
            </p:nvSpPr>
            <p:spPr>
              <a:xfrm>
                <a:off x="649440" y="4677840"/>
                <a:ext cx="3588480" cy="636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837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AutoShape 41"/>
              <p:cNvSpPr/>
              <p:nvPr/>
            </p:nvSpPr>
            <p:spPr>
              <a:xfrm>
                <a:off x="722520" y="4695120"/>
                <a:ext cx="3432960" cy="518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>
                      <a:alpha val="50196"/>
                    </a:srgbClr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4" name="Group 42"/>
            <p:cNvGrpSpPr/>
            <p:nvPr/>
          </p:nvGrpSpPr>
          <p:grpSpPr>
            <a:xfrm>
              <a:off x="1872360" y="2363760"/>
              <a:ext cx="1066680" cy="470520"/>
              <a:chOff x="1872360" y="2363760"/>
              <a:chExt cx="1066680" cy="470520"/>
            </a:xfrm>
          </p:grpSpPr>
          <p:sp>
            <p:nvSpPr>
              <p:cNvPr id="165" name="Oval 43"/>
              <p:cNvSpPr/>
              <p:nvPr/>
            </p:nvSpPr>
            <p:spPr>
              <a:xfrm>
                <a:off x="1872360" y="2363760"/>
                <a:ext cx="1066680" cy="47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Oval 44"/>
              <p:cNvSpPr/>
              <p:nvPr/>
            </p:nvSpPr>
            <p:spPr>
              <a:xfrm>
                <a:off x="1883520" y="2367360"/>
                <a:ext cx="1031760" cy="455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Oval 45"/>
              <p:cNvSpPr/>
              <p:nvPr/>
            </p:nvSpPr>
            <p:spPr>
              <a:xfrm>
                <a:off x="1896120" y="2369880"/>
                <a:ext cx="1007640" cy="444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Oval 46"/>
              <p:cNvSpPr/>
              <p:nvPr/>
            </p:nvSpPr>
            <p:spPr>
              <a:xfrm>
                <a:off x="1907280" y="2374200"/>
                <a:ext cx="958320" cy="414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Oval 47"/>
              <p:cNvSpPr/>
              <p:nvPr/>
            </p:nvSpPr>
            <p:spPr>
              <a:xfrm>
                <a:off x="1963080" y="2385360"/>
                <a:ext cx="851400" cy="33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0" name="Text Box 48"/>
          <p:cNvSpPr/>
          <p:nvPr/>
        </p:nvSpPr>
        <p:spPr>
          <a:xfrm>
            <a:off x="2194920" y="23493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j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49"/>
          <p:cNvSpPr/>
          <p:nvPr/>
        </p:nvSpPr>
        <p:spPr>
          <a:xfrm>
            <a:off x="814320" y="2876400"/>
            <a:ext cx="324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function printhello()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$(“#hello”).html(“Hello, jQuery!”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$(document).ready(printhello(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81"/>
          <p:cNvSpPr/>
          <p:nvPr/>
        </p:nvSpPr>
        <p:spPr>
          <a:xfrm>
            <a:off x="755640" y="5589720"/>
            <a:ext cx="77882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ame as window.onload??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132"/>
          <p:cNvGrpSpPr/>
          <p:nvPr/>
        </p:nvGrpSpPr>
        <p:grpSpPr>
          <a:xfrm>
            <a:off x="4335120" y="2349360"/>
            <a:ext cx="4557240" cy="2967120"/>
            <a:chOff x="4335120" y="2349360"/>
            <a:chExt cx="4557240" cy="2967120"/>
          </a:xfrm>
        </p:grpSpPr>
        <p:sp>
          <p:nvSpPr>
            <p:cNvPr id="174" name="Freeform 115"/>
            <p:cNvSpPr/>
            <p:nvPr/>
          </p:nvSpPr>
          <p:spPr>
            <a:xfrm flipH="1" rot="20280000">
              <a:off x="4427640" y="3284280"/>
              <a:ext cx="792000" cy="647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ebe"/>
                </a:gs>
                <a:gs pos="100000">
                  <a:srgbClr val="ff0033"/>
                </a:gs>
              </a:gsLst>
              <a:lin ang="9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5" name="Group 116"/>
            <p:cNvGrpSpPr/>
            <p:nvPr/>
          </p:nvGrpSpPr>
          <p:grpSpPr>
            <a:xfrm>
              <a:off x="5292720" y="2349360"/>
              <a:ext cx="3599640" cy="2967120"/>
              <a:chOff x="5292720" y="2349360"/>
              <a:chExt cx="3599640" cy="2967120"/>
            </a:xfrm>
          </p:grpSpPr>
          <p:grpSp>
            <p:nvGrpSpPr>
              <p:cNvPr id="176" name="Group 117"/>
              <p:cNvGrpSpPr/>
              <p:nvPr/>
            </p:nvGrpSpPr>
            <p:grpSpPr>
              <a:xfrm>
                <a:off x="5292720" y="2575440"/>
                <a:ext cx="3599640" cy="2741040"/>
                <a:chOff x="5292720" y="2575440"/>
                <a:chExt cx="3599640" cy="2741040"/>
              </a:xfrm>
            </p:grpSpPr>
            <p:sp>
              <p:nvSpPr>
                <p:cNvPr id="177" name="AutoShape 118"/>
                <p:cNvSpPr/>
                <p:nvPr/>
              </p:nvSpPr>
              <p:spPr>
                <a:xfrm>
                  <a:off x="5292720" y="2575440"/>
                  <a:ext cx="3588480" cy="210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8f8849"/>
                    </a:gs>
                    <a:gs pos="100000">
                      <a:srgbClr val="b59f4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" name="AutoShape 119"/>
                <p:cNvSpPr/>
                <p:nvPr/>
              </p:nvSpPr>
              <p:spPr>
                <a:xfrm>
                  <a:off x="5348160" y="2581200"/>
                  <a:ext cx="3480840" cy="206100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eaec86"/>
                    </a:gs>
                    <a:gs pos="100000">
                      <a:srgbClr val="dcce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AutoShape 120"/>
                <p:cNvSpPr/>
                <p:nvPr/>
              </p:nvSpPr>
              <p:spPr>
                <a:xfrm>
                  <a:off x="5376960" y="4098960"/>
                  <a:ext cx="3432960" cy="520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aec86">
                        <a:alpha val="0"/>
                      </a:srgbClr>
                    </a:gs>
                    <a:gs pos="100000">
                      <a:srgbClr val="edee9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AutoShape 121"/>
                <p:cNvSpPr/>
                <p:nvPr/>
              </p:nvSpPr>
              <p:spPr>
                <a:xfrm>
                  <a:off x="5376960" y="2597400"/>
                  <a:ext cx="3432960" cy="520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9d7"/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" name="AutoShape 122"/>
                <p:cNvSpPr/>
                <p:nvPr/>
              </p:nvSpPr>
              <p:spPr>
                <a:xfrm>
                  <a:off x="5303880" y="4676400"/>
                  <a:ext cx="3588480" cy="64008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8374c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2" name="AutoShape 123"/>
                <p:cNvSpPr/>
                <p:nvPr/>
              </p:nvSpPr>
              <p:spPr>
                <a:xfrm>
                  <a:off x="5376960" y="4693680"/>
                  <a:ext cx="3432960" cy="520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9d7">
                        <a:alpha val="50196"/>
                      </a:srgbClr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3" name="Group 124"/>
              <p:cNvGrpSpPr/>
              <p:nvPr/>
            </p:nvGrpSpPr>
            <p:grpSpPr>
              <a:xfrm>
                <a:off x="6526800" y="2349360"/>
                <a:ext cx="1066680" cy="473040"/>
                <a:chOff x="6526800" y="2349360"/>
                <a:chExt cx="1066680" cy="473040"/>
              </a:xfrm>
            </p:grpSpPr>
            <p:sp>
              <p:nvSpPr>
                <p:cNvPr id="184" name="Oval 125"/>
                <p:cNvSpPr/>
                <p:nvPr/>
              </p:nvSpPr>
              <p:spPr>
                <a:xfrm>
                  <a:off x="6526800" y="2349360"/>
                  <a:ext cx="1066680" cy="4730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5" name="Oval 126"/>
                <p:cNvSpPr/>
                <p:nvPr/>
              </p:nvSpPr>
              <p:spPr>
                <a:xfrm>
                  <a:off x="6537960" y="2352960"/>
                  <a:ext cx="1031760" cy="45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Oval 127"/>
                <p:cNvSpPr/>
                <p:nvPr/>
              </p:nvSpPr>
              <p:spPr>
                <a:xfrm>
                  <a:off x="6550560" y="2355480"/>
                  <a:ext cx="1007640" cy="44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" name="Oval 128"/>
                <p:cNvSpPr/>
                <p:nvPr/>
              </p:nvSpPr>
              <p:spPr>
                <a:xfrm>
                  <a:off x="6561720" y="2359800"/>
                  <a:ext cx="958320" cy="41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8" name="Oval 129"/>
                <p:cNvSpPr/>
                <p:nvPr/>
              </p:nvSpPr>
              <p:spPr>
                <a:xfrm>
                  <a:off x="6617520" y="2371320"/>
                  <a:ext cx="851400" cy="33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9" name="Text Box 130"/>
            <p:cNvSpPr/>
            <p:nvPr/>
          </p:nvSpPr>
          <p:spPr>
            <a:xfrm>
              <a:off x="6876360" y="2349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j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131"/>
            <p:cNvSpPr/>
            <p:nvPr/>
          </p:nvSpPr>
          <p:spPr>
            <a:xfrm>
              <a:off x="5292720" y="3068640"/>
              <a:ext cx="355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$(document).ready(function(){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$(“#hello”).html(“Hello, jQuery!”)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})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Ev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95160" y="1371240"/>
            <a:ext cx="2810160" cy="50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bind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blur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change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cli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focu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hover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select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toggle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trigger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submit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800600" y="1371600"/>
            <a:ext cx="32274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mousedown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mouseente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mouseleav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keypres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keyup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Ev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74640" y="1219320"/>
            <a:ext cx="7631280" cy="314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$(document).keyup(function(event) {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witch(event.which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e 3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ert(“32 pressed”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reak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}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044720" y="4581360"/>
            <a:ext cx="6337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vent.preventDefaul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vent.stopPropagation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Selecto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96960" y="1218960"/>
            <a:ext cx="7788240" cy="49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follows CSS1~3 Selecto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http://www.w3.org/TR/css3-selector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:anim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:ha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:gt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Attribut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74640" y="1447560"/>
            <a:ext cx="778824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addClas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removeClas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hasClas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toggleClas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attr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removeattr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val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html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avaScript Librari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94800" y="1371600"/>
            <a:ext cx="7788600" cy="50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jQu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Moo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Prototy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YU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Each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4360" y="1371240"/>
            <a:ext cx="7920000" cy="133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each() : Iterate over a jQuery object, executing a function for each matched eleme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611280" y="2565360"/>
            <a:ext cx="3599640" cy="2950560"/>
            <a:chOff x="611280" y="2565360"/>
            <a:chExt cx="3599640" cy="2950560"/>
          </a:xfrm>
        </p:grpSpPr>
        <p:grpSp>
          <p:nvGrpSpPr>
            <p:cNvPr id="204" name="Group 5"/>
            <p:cNvGrpSpPr/>
            <p:nvPr/>
          </p:nvGrpSpPr>
          <p:grpSpPr>
            <a:xfrm>
              <a:off x="611280" y="2790000"/>
              <a:ext cx="3599640" cy="2725920"/>
              <a:chOff x="611280" y="2790000"/>
              <a:chExt cx="3599640" cy="2725920"/>
            </a:xfrm>
          </p:grpSpPr>
          <p:sp>
            <p:nvSpPr>
              <p:cNvPr id="205" name="AutoShape 6"/>
              <p:cNvSpPr/>
              <p:nvPr/>
            </p:nvSpPr>
            <p:spPr>
              <a:xfrm>
                <a:off x="611280" y="2790000"/>
                <a:ext cx="3588480" cy="208944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3477a4"/>
                  </a:gs>
                  <a:gs pos="100000">
                    <a:srgbClr val="4e91d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AutoShape 7"/>
              <p:cNvSpPr/>
              <p:nvPr/>
            </p:nvSpPr>
            <p:spPr>
              <a:xfrm>
                <a:off x="666720" y="2795760"/>
                <a:ext cx="3480840" cy="2050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0d4f2"/>
                  </a:gs>
                  <a:gs pos="100000">
                    <a:srgbClr val="3ca1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AutoShape 8"/>
              <p:cNvSpPr/>
              <p:nvPr/>
            </p:nvSpPr>
            <p:spPr>
              <a:xfrm>
                <a:off x="695520" y="4305600"/>
                <a:ext cx="3432960" cy="518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d4f2">
                      <a:alpha val="0"/>
                    </a:srgbClr>
                  </a:gs>
                  <a:gs pos="100000">
                    <a:srgbClr val="8fd9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AutoShape 9"/>
              <p:cNvSpPr/>
              <p:nvPr/>
            </p:nvSpPr>
            <p:spPr>
              <a:xfrm>
                <a:off x="695520" y="2811960"/>
                <a:ext cx="3432960" cy="518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/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AutoShape 10"/>
              <p:cNvSpPr/>
              <p:nvPr/>
            </p:nvSpPr>
            <p:spPr>
              <a:xfrm>
                <a:off x="622440" y="4879440"/>
                <a:ext cx="3588480" cy="636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837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AutoShape 11"/>
              <p:cNvSpPr/>
              <p:nvPr/>
            </p:nvSpPr>
            <p:spPr>
              <a:xfrm>
                <a:off x="695520" y="4896720"/>
                <a:ext cx="3432960" cy="518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>
                      <a:alpha val="50196"/>
                    </a:srgbClr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1" name="Group 12"/>
            <p:cNvGrpSpPr/>
            <p:nvPr/>
          </p:nvGrpSpPr>
          <p:grpSpPr>
            <a:xfrm>
              <a:off x="1845360" y="2565360"/>
              <a:ext cx="1066680" cy="470520"/>
              <a:chOff x="1845360" y="2565360"/>
              <a:chExt cx="1066680" cy="470520"/>
            </a:xfrm>
          </p:grpSpPr>
          <p:sp>
            <p:nvSpPr>
              <p:cNvPr id="212" name="Oval 13"/>
              <p:cNvSpPr/>
              <p:nvPr/>
            </p:nvSpPr>
            <p:spPr>
              <a:xfrm>
                <a:off x="1845360" y="2565360"/>
                <a:ext cx="1066680" cy="47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Oval 14"/>
              <p:cNvSpPr/>
              <p:nvPr/>
            </p:nvSpPr>
            <p:spPr>
              <a:xfrm>
                <a:off x="1856520" y="2568960"/>
                <a:ext cx="1031760" cy="455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Oval 15"/>
              <p:cNvSpPr/>
              <p:nvPr/>
            </p:nvSpPr>
            <p:spPr>
              <a:xfrm>
                <a:off x="1869120" y="2571480"/>
                <a:ext cx="1007640" cy="444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Oval 16"/>
              <p:cNvSpPr/>
              <p:nvPr/>
            </p:nvSpPr>
            <p:spPr>
              <a:xfrm>
                <a:off x="1880280" y="2575800"/>
                <a:ext cx="958320" cy="414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Oval 17"/>
              <p:cNvSpPr/>
              <p:nvPr/>
            </p:nvSpPr>
            <p:spPr>
              <a:xfrm>
                <a:off x="1936080" y="2586960"/>
                <a:ext cx="851400" cy="33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7" name="Text Box 18"/>
          <p:cNvSpPr/>
          <p:nvPr/>
        </p:nvSpPr>
        <p:spPr>
          <a:xfrm>
            <a:off x="2009520" y="25653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826920" y="3213000"/>
            <a:ext cx="3248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ul&gt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li&gt;garbage&lt;/li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li&gt;food&lt;/li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li&gt;abroad&lt;/li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/ul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23"/>
          <p:cNvGrpSpPr/>
          <p:nvPr/>
        </p:nvGrpSpPr>
        <p:grpSpPr>
          <a:xfrm>
            <a:off x="5292720" y="2565360"/>
            <a:ext cx="3599640" cy="2967120"/>
            <a:chOff x="5292720" y="2565360"/>
            <a:chExt cx="3599640" cy="2967120"/>
          </a:xfrm>
        </p:grpSpPr>
        <p:grpSp>
          <p:nvGrpSpPr>
            <p:cNvPr id="220" name="Group 24"/>
            <p:cNvGrpSpPr/>
            <p:nvPr/>
          </p:nvGrpSpPr>
          <p:grpSpPr>
            <a:xfrm>
              <a:off x="5292720" y="2791440"/>
              <a:ext cx="3599640" cy="2741040"/>
              <a:chOff x="5292720" y="2791440"/>
              <a:chExt cx="3599640" cy="2741040"/>
            </a:xfrm>
          </p:grpSpPr>
          <p:sp>
            <p:nvSpPr>
              <p:cNvPr id="221" name="AutoShape 25"/>
              <p:cNvSpPr/>
              <p:nvPr/>
            </p:nvSpPr>
            <p:spPr>
              <a:xfrm>
                <a:off x="5292720" y="2791440"/>
                <a:ext cx="3588480" cy="2100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8f8849"/>
                  </a:gs>
                  <a:gs pos="100000">
                    <a:srgbClr val="b59f4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AutoShape 26"/>
              <p:cNvSpPr/>
              <p:nvPr/>
            </p:nvSpPr>
            <p:spPr>
              <a:xfrm>
                <a:off x="5348160" y="2797200"/>
                <a:ext cx="3480840" cy="2061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aec86"/>
                  </a:gs>
                  <a:gs pos="100000">
                    <a:srgbClr val="dcc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AutoShape 27"/>
              <p:cNvSpPr/>
              <p:nvPr/>
            </p:nvSpPr>
            <p:spPr>
              <a:xfrm>
                <a:off x="5376960" y="4314960"/>
                <a:ext cx="3432960" cy="520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ec86">
                      <a:alpha val="0"/>
                    </a:srgbClr>
                  </a:gs>
                  <a:gs pos="100000">
                    <a:srgbClr val="edee9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AutoShape 28"/>
              <p:cNvSpPr/>
              <p:nvPr/>
            </p:nvSpPr>
            <p:spPr>
              <a:xfrm>
                <a:off x="5376960" y="2813400"/>
                <a:ext cx="3432960" cy="520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9d7"/>
                  </a:gs>
                  <a:gs pos="100000">
                    <a:srgbClr val="eaec8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AutoShape 29"/>
              <p:cNvSpPr/>
              <p:nvPr/>
            </p:nvSpPr>
            <p:spPr>
              <a:xfrm>
                <a:off x="5303880" y="4892400"/>
                <a:ext cx="3588480" cy="6400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837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AutoShape 30"/>
              <p:cNvSpPr/>
              <p:nvPr/>
            </p:nvSpPr>
            <p:spPr>
              <a:xfrm>
                <a:off x="5376960" y="4909680"/>
                <a:ext cx="3432960" cy="520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9d7">
                      <a:alpha val="50196"/>
                    </a:srgbClr>
                  </a:gs>
                  <a:gs pos="100000">
                    <a:srgbClr val="eaec8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" name="Group 31"/>
            <p:cNvGrpSpPr/>
            <p:nvPr/>
          </p:nvGrpSpPr>
          <p:grpSpPr>
            <a:xfrm>
              <a:off x="6526800" y="2565360"/>
              <a:ext cx="1066680" cy="473040"/>
              <a:chOff x="6526800" y="2565360"/>
              <a:chExt cx="1066680" cy="473040"/>
            </a:xfrm>
          </p:grpSpPr>
          <p:sp>
            <p:nvSpPr>
              <p:cNvPr id="228" name="Oval 32"/>
              <p:cNvSpPr/>
              <p:nvPr/>
            </p:nvSpPr>
            <p:spPr>
              <a:xfrm>
                <a:off x="6526800" y="2565360"/>
                <a:ext cx="1066680" cy="473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Oval 33"/>
              <p:cNvSpPr/>
              <p:nvPr/>
            </p:nvSpPr>
            <p:spPr>
              <a:xfrm>
                <a:off x="6537960" y="2568960"/>
                <a:ext cx="1031760" cy="458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Oval 34"/>
              <p:cNvSpPr/>
              <p:nvPr/>
            </p:nvSpPr>
            <p:spPr>
              <a:xfrm>
                <a:off x="6550560" y="2571480"/>
                <a:ext cx="1007640" cy="446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Oval 35"/>
              <p:cNvSpPr/>
              <p:nvPr/>
            </p:nvSpPr>
            <p:spPr>
              <a:xfrm>
                <a:off x="6561720" y="2575800"/>
                <a:ext cx="958320" cy="416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Oval 36"/>
              <p:cNvSpPr/>
              <p:nvPr/>
            </p:nvSpPr>
            <p:spPr>
              <a:xfrm>
                <a:off x="6617520" y="2587320"/>
                <a:ext cx="851400" cy="33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3" name="Text Box 37"/>
          <p:cNvSpPr/>
          <p:nvPr/>
        </p:nvSpPr>
        <p:spPr>
          <a:xfrm>
            <a:off x="6876360" y="25653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j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292720" y="3284640"/>
            <a:ext cx="355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$(document).ready(function()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$('li').each(function(index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lert(index + ': ' + $(this).text(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}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}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Travers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94800" y="1371600"/>
            <a:ext cx="7788600" cy="50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add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children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content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filter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find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next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not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prev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Manipul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94800" y="1833120"/>
            <a:ext cx="77886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append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appendTo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clone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detach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insertAfter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insertBefore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remove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CS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94800" y="1833120"/>
            <a:ext cx="77886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cs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height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width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position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offset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scrollTop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scrollLeft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Effec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4360" y="184428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animate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611280" y="2565360"/>
            <a:ext cx="2880360" cy="2950560"/>
            <a:chOff x="611280" y="2565360"/>
            <a:chExt cx="2880360" cy="2950560"/>
          </a:xfrm>
        </p:grpSpPr>
        <p:grpSp>
          <p:nvGrpSpPr>
            <p:cNvPr id="244" name="Group 5"/>
            <p:cNvGrpSpPr/>
            <p:nvPr/>
          </p:nvGrpSpPr>
          <p:grpSpPr>
            <a:xfrm>
              <a:off x="611280" y="2790000"/>
              <a:ext cx="2880360" cy="2725920"/>
              <a:chOff x="611280" y="2790000"/>
              <a:chExt cx="2880360" cy="2725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611280" y="2790000"/>
                <a:ext cx="2871720" cy="208944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3477a4"/>
                  </a:gs>
                  <a:gs pos="100000">
                    <a:srgbClr val="4e91d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655560" y="2795760"/>
                <a:ext cx="2785320" cy="2050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0d4f2"/>
                  </a:gs>
                  <a:gs pos="100000">
                    <a:srgbClr val="3ca1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678600" y="4305600"/>
                <a:ext cx="2746800" cy="518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d4f2">
                      <a:alpha val="0"/>
                    </a:srgbClr>
                  </a:gs>
                  <a:gs pos="100000">
                    <a:srgbClr val="8fd9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AutoShape 9"/>
              <p:cNvSpPr/>
              <p:nvPr/>
            </p:nvSpPr>
            <p:spPr>
              <a:xfrm>
                <a:off x="678600" y="2811960"/>
                <a:ext cx="2746800" cy="518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/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AutoShape 10"/>
              <p:cNvSpPr/>
              <p:nvPr/>
            </p:nvSpPr>
            <p:spPr>
              <a:xfrm>
                <a:off x="619920" y="4879440"/>
                <a:ext cx="2871720" cy="636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837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AutoShape 11"/>
              <p:cNvSpPr/>
              <p:nvPr/>
            </p:nvSpPr>
            <p:spPr>
              <a:xfrm>
                <a:off x="678600" y="4896720"/>
                <a:ext cx="2746800" cy="518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>
                      <a:alpha val="50196"/>
                    </a:srgbClr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1" name="Group 12"/>
            <p:cNvGrpSpPr/>
            <p:nvPr/>
          </p:nvGrpSpPr>
          <p:grpSpPr>
            <a:xfrm>
              <a:off x="1598760" y="2565360"/>
              <a:ext cx="853920" cy="470520"/>
              <a:chOff x="1598760" y="2565360"/>
              <a:chExt cx="853920" cy="470520"/>
            </a:xfrm>
          </p:grpSpPr>
          <p:sp>
            <p:nvSpPr>
              <p:cNvPr id="252" name="Oval 13"/>
              <p:cNvSpPr/>
              <p:nvPr/>
            </p:nvSpPr>
            <p:spPr>
              <a:xfrm>
                <a:off x="1598760" y="2565360"/>
                <a:ext cx="853920" cy="47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Oval 14"/>
              <p:cNvSpPr/>
              <p:nvPr/>
            </p:nvSpPr>
            <p:spPr>
              <a:xfrm>
                <a:off x="1607400" y="2568960"/>
                <a:ext cx="825840" cy="455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Oval 15"/>
              <p:cNvSpPr/>
              <p:nvPr/>
            </p:nvSpPr>
            <p:spPr>
              <a:xfrm>
                <a:off x="1617840" y="2571480"/>
                <a:ext cx="806400" cy="444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Oval 16"/>
              <p:cNvSpPr/>
              <p:nvPr/>
            </p:nvSpPr>
            <p:spPr>
              <a:xfrm>
                <a:off x="1626840" y="2575800"/>
                <a:ext cx="766800" cy="414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Oval 17"/>
              <p:cNvSpPr/>
              <p:nvPr/>
            </p:nvSpPr>
            <p:spPr>
              <a:xfrm>
                <a:off x="1671480" y="2586960"/>
                <a:ext cx="681480" cy="33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57" name="Text Box 18"/>
          <p:cNvSpPr/>
          <p:nvPr/>
        </p:nvSpPr>
        <p:spPr>
          <a:xfrm>
            <a:off x="1650600" y="25653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684360" y="3284640"/>
            <a:ext cx="32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button id="left"&gt;left&lt;/button&gt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button id="right"&gt;right&lt;/button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div class="block"&gt;&lt;/div&gt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" name="Group 55"/>
          <p:cNvGrpSpPr/>
          <p:nvPr/>
        </p:nvGrpSpPr>
        <p:grpSpPr>
          <a:xfrm>
            <a:off x="3851280" y="1557360"/>
            <a:ext cx="5112720" cy="5299920"/>
            <a:chOff x="3851280" y="1557360"/>
            <a:chExt cx="5112720" cy="5299920"/>
          </a:xfrm>
        </p:grpSpPr>
        <p:grpSp>
          <p:nvGrpSpPr>
            <p:cNvPr id="260" name="Group 56"/>
            <p:cNvGrpSpPr/>
            <p:nvPr/>
          </p:nvGrpSpPr>
          <p:grpSpPr>
            <a:xfrm>
              <a:off x="3851280" y="1960920"/>
              <a:ext cx="5112720" cy="4896360"/>
              <a:chOff x="3851280" y="1960920"/>
              <a:chExt cx="5112720" cy="4896360"/>
            </a:xfrm>
          </p:grpSpPr>
          <p:sp>
            <p:nvSpPr>
              <p:cNvPr id="261" name="AutoShape 57"/>
              <p:cNvSpPr/>
              <p:nvPr/>
            </p:nvSpPr>
            <p:spPr>
              <a:xfrm>
                <a:off x="3851280" y="1960920"/>
                <a:ext cx="5096880" cy="375300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8f8849"/>
                  </a:gs>
                  <a:gs pos="100000">
                    <a:srgbClr val="b59f4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AutoShape 58"/>
              <p:cNvSpPr/>
              <p:nvPr/>
            </p:nvSpPr>
            <p:spPr>
              <a:xfrm>
                <a:off x="3930120" y="1971000"/>
                <a:ext cx="4943520" cy="3682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aec86"/>
                  </a:gs>
                  <a:gs pos="100000">
                    <a:srgbClr val="dcc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AutoShape 59"/>
              <p:cNvSpPr/>
              <p:nvPr/>
            </p:nvSpPr>
            <p:spPr>
              <a:xfrm>
                <a:off x="3971160" y="4682880"/>
                <a:ext cx="4875480" cy="9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ec86">
                      <a:alpha val="0"/>
                    </a:srgbClr>
                  </a:gs>
                  <a:gs pos="100000">
                    <a:srgbClr val="edee9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AutoShape 60"/>
              <p:cNvSpPr/>
              <p:nvPr/>
            </p:nvSpPr>
            <p:spPr>
              <a:xfrm>
                <a:off x="3971160" y="2000520"/>
                <a:ext cx="4875480" cy="9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9d7"/>
                  </a:gs>
                  <a:gs pos="100000">
                    <a:srgbClr val="eaec8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AutoShape 61"/>
              <p:cNvSpPr/>
              <p:nvPr/>
            </p:nvSpPr>
            <p:spPr>
              <a:xfrm>
                <a:off x="3867120" y="5713920"/>
                <a:ext cx="5096880" cy="114336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837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AutoShape 62"/>
              <p:cNvSpPr/>
              <p:nvPr/>
            </p:nvSpPr>
            <p:spPr>
              <a:xfrm>
                <a:off x="3971160" y="5744880"/>
                <a:ext cx="4875480" cy="9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9d7">
                      <a:alpha val="50196"/>
                    </a:srgbClr>
                  </a:gs>
                  <a:gs pos="100000">
                    <a:srgbClr val="eaec8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7" name="Group 63"/>
            <p:cNvGrpSpPr/>
            <p:nvPr/>
          </p:nvGrpSpPr>
          <p:grpSpPr>
            <a:xfrm>
              <a:off x="5604120" y="1557360"/>
              <a:ext cx="1514880" cy="844920"/>
              <a:chOff x="5604120" y="1557360"/>
              <a:chExt cx="1514880" cy="844920"/>
            </a:xfrm>
          </p:grpSpPr>
          <p:sp>
            <p:nvSpPr>
              <p:cNvPr id="268" name="Oval 64"/>
              <p:cNvSpPr/>
              <p:nvPr/>
            </p:nvSpPr>
            <p:spPr>
              <a:xfrm>
                <a:off x="5604120" y="1557360"/>
                <a:ext cx="1514880" cy="844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Oval 65"/>
              <p:cNvSpPr/>
              <p:nvPr/>
            </p:nvSpPr>
            <p:spPr>
              <a:xfrm>
                <a:off x="5619960" y="1563840"/>
                <a:ext cx="1465200" cy="818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Oval 66"/>
              <p:cNvSpPr/>
              <p:nvPr/>
            </p:nvSpPr>
            <p:spPr>
              <a:xfrm>
                <a:off x="5637960" y="1568520"/>
                <a:ext cx="1431000" cy="79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Oval 67"/>
              <p:cNvSpPr/>
              <p:nvPr/>
            </p:nvSpPr>
            <p:spPr>
              <a:xfrm>
                <a:off x="5653800" y="1576440"/>
                <a:ext cx="1360800" cy="744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Oval 68"/>
              <p:cNvSpPr/>
              <p:nvPr/>
            </p:nvSpPr>
            <p:spPr>
              <a:xfrm>
                <a:off x="5733000" y="1596600"/>
                <a:ext cx="1208880" cy="605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73" name="Text Box 69"/>
          <p:cNvSpPr/>
          <p:nvPr/>
        </p:nvSpPr>
        <p:spPr>
          <a:xfrm>
            <a:off x="6085800" y="1700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j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70"/>
          <p:cNvSpPr/>
          <p:nvPr/>
        </p:nvSpPr>
        <p:spPr>
          <a:xfrm>
            <a:off x="4067280" y="2276640"/>
            <a:ext cx="460044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$(document).ready(function()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$(".block").css(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'position': 'absolute'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'backgroundColor': "#abc"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'left': '100px'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'width': '90px'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'height': '90px'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'margin': '5px' }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$("#left").click(function()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$(".block").animate({left: "-=50px"}, "slow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}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$("#right").click(function()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$(".block").animate({left: "+=50px"}, "slow"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}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})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Effec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94800" y="1833120"/>
            <a:ext cx="77886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fadeIn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hide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show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toggle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JA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nchronous JavaScript And X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c AJAX function – XMLHttpRequ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a requ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the respo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AJA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95160" y="1066680"/>
            <a:ext cx="8143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Query.get(url, [data], [callback(data, textStatus, XMLHttpRequest)], [dataType]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turn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XMLHttpRequ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Query.post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Query.getJSON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Query.load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Query.getScrip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AJAX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2340000" y="3797280"/>
            <a:ext cx="1658880" cy="569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5e5e"/>
              </a:gs>
              <a:gs pos="50000">
                <a:srgbClr val="cccccc"/>
              </a:gs>
              <a:gs pos="100000">
                <a:srgbClr val="5e5e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2340000" y="3284640"/>
            <a:ext cx="1658880" cy="571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5e5e"/>
              </a:gs>
              <a:gs pos="50000">
                <a:srgbClr val="cccccc"/>
              </a:gs>
              <a:gs pos="100000">
                <a:srgbClr val="5e5e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6032520" y="3498840"/>
            <a:ext cx="1728720" cy="569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23"/>
          <p:cNvSpPr/>
          <p:nvPr/>
        </p:nvSpPr>
        <p:spPr>
          <a:xfrm>
            <a:off x="2659320" y="34322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jQue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24"/>
          <p:cNvSpPr/>
          <p:nvPr/>
        </p:nvSpPr>
        <p:spPr>
          <a:xfrm>
            <a:off x="2707920" y="39304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25"/>
          <p:cNvSpPr/>
          <p:nvPr/>
        </p:nvSpPr>
        <p:spPr>
          <a:xfrm>
            <a:off x="6495840" y="3645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AutoShape 31"/>
          <p:cNvSpPr/>
          <p:nvPr/>
        </p:nvSpPr>
        <p:spPr>
          <a:xfrm rot="11095200">
            <a:off x="1834920" y="3357000"/>
            <a:ext cx="360360" cy="934920"/>
          </a:xfrm>
          <a:custGeom>
            <a:avLst/>
            <a:gdLst>
              <a:gd name="textAreaLeft" fmla="*/ 48240 w 360360"/>
              <a:gd name="textAreaRight" fmla="*/ 312120 w 360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82f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434160" y="36450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usern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0" name="AutoShape 34"/>
          <p:cNvCxnSpPr/>
          <p:nvPr/>
        </p:nvCxnSpPr>
        <p:spPr>
          <a:xfrm flipH="1" rot="16200000">
            <a:off x="4888440" y="1599840"/>
            <a:ext cx="214920" cy="3728160"/>
          </a:xfrm>
          <a:prstGeom prst="curvedConnector5">
            <a:avLst>
              <a:gd name="adj1" fmla="val -506543"/>
              <a:gd name="adj2" fmla="val 49995"/>
              <a:gd name="adj3" fmla="val -5065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Text Box 35"/>
          <p:cNvSpPr/>
          <p:nvPr/>
        </p:nvSpPr>
        <p:spPr>
          <a:xfrm>
            <a:off x="3608640" y="184464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Does ‘username’ exist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" name="AutoShape 36"/>
          <p:cNvCxnSpPr/>
          <p:nvPr/>
        </p:nvCxnSpPr>
        <p:spPr>
          <a:xfrm flipV="1" rot="16200000">
            <a:off x="4959720" y="1527120"/>
            <a:ext cx="214920" cy="3728160"/>
          </a:xfrm>
          <a:prstGeom prst="curvedConnector5">
            <a:avLst>
              <a:gd name="adj1" fmla="val 357718"/>
              <a:gd name="adj2" fmla="val 49995"/>
              <a:gd name="adj3" fmla="val 357718"/>
            </a:avLst>
          </a:prstGeom>
          <a:ln w="9360">
            <a:solidFill>
              <a:srgbClr val="cc00cc"/>
            </a:solidFill>
            <a:miter/>
            <a:tailEnd len="med" type="triangle" w="med"/>
          </a:ln>
        </p:spPr>
      </p:cxnSp>
      <p:sp>
        <p:nvSpPr>
          <p:cNvPr id="293" name="Text Box 37"/>
          <p:cNvSpPr/>
          <p:nvPr/>
        </p:nvSpPr>
        <p:spPr>
          <a:xfrm>
            <a:off x="4510800" y="285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yes/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38"/>
          <p:cNvSpPr/>
          <p:nvPr/>
        </p:nvSpPr>
        <p:spPr>
          <a:xfrm>
            <a:off x="7902360" y="364500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check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AutoShape 39"/>
          <p:cNvSpPr/>
          <p:nvPr/>
        </p:nvSpPr>
        <p:spPr>
          <a:xfrm>
            <a:off x="4140360" y="3429000"/>
            <a:ext cx="360360" cy="934920"/>
          </a:xfrm>
          <a:custGeom>
            <a:avLst/>
            <a:gdLst>
              <a:gd name="textAreaLeft" fmla="*/ 48240 w 360360"/>
              <a:gd name="textAreaRight" fmla="*/ 312120 w 360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82f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40"/>
          <p:cNvSpPr/>
          <p:nvPr/>
        </p:nvSpPr>
        <p:spPr>
          <a:xfrm>
            <a:off x="4537080" y="37162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굴림"/>
              </a:rPr>
              <a:t>jQuery AJA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pSp>
        <p:nvGrpSpPr>
          <p:cNvPr id="298" name="Group 48"/>
          <p:cNvGrpSpPr/>
          <p:nvPr/>
        </p:nvGrpSpPr>
        <p:grpSpPr>
          <a:xfrm>
            <a:off x="5867280" y="1413000"/>
            <a:ext cx="3276000" cy="4392000"/>
            <a:chOff x="5867280" y="1413000"/>
            <a:chExt cx="3276000" cy="4392000"/>
          </a:xfrm>
        </p:grpSpPr>
        <p:grpSp>
          <p:nvGrpSpPr>
            <p:cNvPr id="299" name="Group 49"/>
            <p:cNvGrpSpPr/>
            <p:nvPr/>
          </p:nvGrpSpPr>
          <p:grpSpPr>
            <a:xfrm>
              <a:off x="5867280" y="1747440"/>
              <a:ext cx="3276000" cy="4057560"/>
              <a:chOff x="5867280" y="1747440"/>
              <a:chExt cx="3276000" cy="4057560"/>
            </a:xfrm>
          </p:grpSpPr>
          <p:sp>
            <p:nvSpPr>
              <p:cNvPr id="300" name="AutoShape 50"/>
              <p:cNvSpPr/>
              <p:nvPr/>
            </p:nvSpPr>
            <p:spPr>
              <a:xfrm>
                <a:off x="5867280" y="1747440"/>
                <a:ext cx="3265920" cy="311004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3f8b4a"/>
                  </a:gs>
                  <a:gs pos="100000">
                    <a:srgbClr val="34b03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AutoShape 51"/>
              <p:cNvSpPr/>
              <p:nvPr/>
            </p:nvSpPr>
            <p:spPr>
              <a:xfrm>
                <a:off x="5917680" y="1755720"/>
                <a:ext cx="3168000" cy="3051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8ea91"/>
                  </a:gs>
                  <a:gs pos="100000">
                    <a:srgbClr val="21d3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AutoShape 52"/>
              <p:cNvSpPr/>
              <p:nvPr/>
            </p:nvSpPr>
            <p:spPr>
              <a:xfrm>
                <a:off x="5943960" y="4002840"/>
                <a:ext cx="3124080" cy="771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8ea91">
                      <a:alpha val="0"/>
                    </a:srgbClr>
                  </a:gs>
                  <a:gs pos="100000">
                    <a:srgbClr val="96ed9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AutoShape 53"/>
              <p:cNvSpPr/>
              <p:nvPr/>
            </p:nvSpPr>
            <p:spPr>
              <a:xfrm>
                <a:off x="5943960" y="1780200"/>
                <a:ext cx="3124080" cy="771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f8da"/>
                  </a:gs>
                  <a:gs pos="100000">
                    <a:srgbClr val="88ea9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AutoShape 54"/>
              <p:cNvSpPr/>
              <p:nvPr/>
            </p:nvSpPr>
            <p:spPr>
              <a:xfrm>
                <a:off x="5877360" y="4857480"/>
                <a:ext cx="3265920" cy="94752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837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AutoShape 55"/>
              <p:cNvSpPr/>
              <p:nvPr/>
            </p:nvSpPr>
            <p:spPr>
              <a:xfrm>
                <a:off x="5943960" y="4883040"/>
                <a:ext cx="3124080" cy="771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5f0c2">
                      <a:alpha val="50196"/>
                    </a:srgbClr>
                  </a:gs>
                  <a:gs pos="100000">
                    <a:srgbClr val="21d34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6" name="Group 56"/>
            <p:cNvGrpSpPr/>
            <p:nvPr/>
          </p:nvGrpSpPr>
          <p:grpSpPr>
            <a:xfrm>
              <a:off x="6990480" y="1413000"/>
              <a:ext cx="970920" cy="700200"/>
              <a:chOff x="6990480" y="1413000"/>
              <a:chExt cx="970920" cy="700200"/>
            </a:xfrm>
          </p:grpSpPr>
          <p:sp>
            <p:nvSpPr>
              <p:cNvPr id="307" name="Oval 57"/>
              <p:cNvSpPr/>
              <p:nvPr/>
            </p:nvSpPr>
            <p:spPr>
              <a:xfrm>
                <a:off x="6990480" y="1413000"/>
                <a:ext cx="970920" cy="700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Oval 58"/>
              <p:cNvSpPr/>
              <p:nvPr/>
            </p:nvSpPr>
            <p:spPr>
              <a:xfrm>
                <a:off x="7000560" y="1418400"/>
                <a:ext cx="938880" cy="677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Oval 59"/>
              <p:cNvSpPr/>
              <p:nvPr/>
            </p:nvSpPr>
            <p:spPr>
              <a:xfrm>
                <a:off x="7012080" y="1422360"/>
                <a:ext cx="916920" cy="66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Oval 60"/>
              <p:cNvSpPr/>
              <p:nvPr/>
            </p:nvSpPr>
            <p:spPr>
              <a:xfrm>
                <a:off x="7022160" y="1428840"/>
                <a:ext cx="871920" cy="617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Oval 61"/>
              <p:cNvSpPr/>
              <p:nvPr/>
            </p:nvSpPr>
            <p:spPr>
              <a:xfrm>
                <a:off x="7072920" y="1445400"/>
                <a:ext cx="774720" cy="50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2" name="Group 5"/>
          <p:cNvGrpSpPr/>
          <p:nvPr/>
        </p:nvGrpSpPr>
        <p:grpSpPr>
          <a:xfrm>
            <a:off x="0" y="1700280"/>
            <a:ext cx="5903280" cy="2109240"/>
            <a:chOff x="0" y="1700280"/>
            <a:chExt cx="5903280" cy="2109240"/>
          </a:xfrm>
        </p:grpSpPr>
        <p:sp>
          <p:nvSpPr>
            <p:cNvPr id="313" name="AutoShape 6"/>
            <p:cNvSpPr/>
            <p:nvPr/>
          </p:nvSpPr>
          <p:spPr>
            <a:xfrm>
              <a:off x="0" y="1700280"/>
              <a:ext cx="5885280" cy="1616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AutoShape 7"/>
            <p:cNvSpPr/>
            <p:nvPr/>
          </p:nvSpPr>
          <p:spPr>
            <a:xfrm>
              <a:off x="91080" y="1704600"/>
              <a:ext cx="5708520" cy="158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d4f2"/>
                </a:gs>
                <a:gs pos="100000">
                  <a:srgbClr val="3ca1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AutoShape 8"/>
            <p:cNvSpPr/>
            <p:nvPr/>
          </p:nvSpPr>
          <p:spPr>
            <a:xfrm>
              <a:off x="138240" y="2872800"/>
              <a:ext cx="5629680" cy="40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d4f2">
                    <a:alpha val="0"/>
                  </a:srgbClr>
                </a:gs>
                <a:gs pos="100000">
                  <a:srgbClr val="8f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AutoShape 9"/>
            <p:cNvSpPr/>
            <p:nvPr/>
          </p:nvSpPr>
          <p:spPr>
            <a:xfrm>
              <a:off x="138240" y="1717200"/>
              <a:ext cx="5629680" cy="40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f1fb"/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AutoShape 10"/>
            <p:cNvSpPr/>
            <p:nvPr/>
          </p:nvSpPr>
          <p:spPr>
            <a:xfrm>
              <a:off x="18000" y="3317040"/>
              <a:ext cx="5885280" cy="492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3477a4">
                    <a:alpha val="50196"/>
                  </a:srgbClr>
                </a:gs>
                <a:gs pos="100000">
                  <a:srgbClr val="18374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AutoShape 11"/>
            <p:cNvSpPr/>
            <p:nvPr/>
          </p:nvSpPr>
          <p:spPr>
            <a:xfrm>
              <a:off x="138240" y="3330720"/>
              <a:ext cx="5629680" cy="40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f1fb">
                    <a:alpha val="50196"/>
                  </a:srgbClr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Group 12"/>
          <p:cNvGrpSpPr/>
          <p:nvPr/>
        </p:nvGrpSpPr>
        <p:grpSpPr>
          <a:xfrm>
            <a:off x="2808360" y="1484280"/>
            <a:ext cx="1066320" cy="469800"/>
            <a:chOff x="2808360" y="1484280"/>
            <a:chExt cx="1066320" cy="469800"/>
          </a:xfrm>
        </p:grpSpPr>
        <p:sp>
          <p:nvSpPr>
            <p:cNvPr id="320" name="Oval 13"/>
            <p:cNvSpPr/>
            <p:nvPr/>
          </p:nvSpPr>
          <p:spPr>
            <a:xfrm>
              <a:off x="2808360" y="1484280"/>
              <a:ext cx="1066320" cy="4698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14"/>
            <p:cNvSpPr/>
            <p:nvPr/>
          </p:nvSpPr>
          <p:spPr>
            <a:xfrm>
              <a:off x="2819520" y="1487880"/>
              <a:ext cx="1031400" cy="455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15"/>
            <p:cNvSpPr/>
            <p:nvPr/>
          </p:nvSpPr>
          <p:spPr>
            <a:xfrm>
              <a:off x="2832120" y="1490400"/>
              <a:ext cx="1007640" cy="443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2843280" y="1494720"/>
              <a:ext cx="957960" cy="414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Oval 17"/>
            <p:cNvSpPr/>
            <p:nvPr/>
          </p:nvSpPr>
          <p:spPr>
            <a:xfrm>
              <a:off x="2899080" y="1505880"/>
              <a:ext cx="851040" cy="33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Text Box 18"/>
          <p:cNvSpPr/>
          <p:nvPr/>
        </p:nvSpPr>
        <p:spPr>
          <a:xfrm>
            <a:off x="2982600" y="14842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0" y="1989000"/>
            <a:ext cx="59054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&lt;div id="user_check"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&lt;input id="username" type="text"&gt;&lt;/input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&lt;input id="username_submit" type="button" value="submit"&gt;&lt;/input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&lt;p id="check_result"&gt;&lt;/p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&lt;/div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7" name="Group 21"/>
          <p:cNvGrpSpPr/>
          <p:nvPr/>
        </p:nvGrpSpPr>
        <p:grpSpPr>
          <a:xfrm>
            <a:off x="0" y="3716280"/>
            <a:ext cx="5903280" cy="2881440"/>
            <a:chOff x="0" y="3716280"/>
            <a:chExt cx="5903280" cy="2881440"/>
          </a:xfrm>
        </p:grpSpPr>
        <p:sp>
          <p:nvSpPr>
            <p:cNvPr id="328" name="AutoShape 22"/>
            <p:cNvSpPr/>
            <p:nvPr/>
          </p:nvSpPr>
          <p:spPr>
            <a:xfrm>
              <a:off x="0" y="3716280"/>
              <a:ext cx="5885280" cy="22086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AutoShape 23"/>
            <p:cNvSpPr/>
            <p:nvPr/>
          </p:nvSpPr>
          <p:spPr>
            <a:xfrm>
              <a:off x="91080" y="3722040"/>
              <a:ext cx="5708520" cy="2166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c86"/>
                </a:gs>
                <a:gs pos="100000">
                  <a:srgbClr val="dcc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AutoShape 24"/>
            <p:cNvSpPr/>
            <p:nvPr/>
          </p:nvSpPr>
          <p:spPr>
            <a:xfrm>
              <a:off x="138240" y="5317920"/>
              <a:ext cx="56296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ec86">
                    <a:alpha val="0"/>
                  </a:srgbClr>
                </a:gs>
                <a:gs pos="100000">
                  <a:srgbClr val="edee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AutoShape 25"/>
            <p:cNvSpPr/>
            <p:nvPr/>
          </p:nvSpPr>
          <p:spPr>
            <a:xfrm>
              <a:off x="138240" y="3739680"/>
              <a:ext cx="56296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9d7"/>
                </a:gs>
                <a:gs pos="100000">
                  <a:srgbClr val="eaec8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AutoShape 26"/>
            <p:cNvSpPr/>
            <p:nvPr/>
          </p:nvSpPr>
          <p:spPr>
            <a:xfrm>
              <a:off x="18000" y="5924880"/>
              <a:ext cx="5885280" cy="6728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3477a4">
                    <a:alpha val="50196"/>
                  </a:srgbClr>
                </a:gs>
                <a:gs pos="100000">
                  <a:srgbClr val="18374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AutoShape 27"/>
            <p:cNvSpPr/>
            <p:nvPr/>
          </p:nvSpPr>
          <p:spPr>
            <a:xfrm>
              <a:off x="138240" y="5943240"/>
              <a:ext cx="562968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9d7">
                    <a:alpha val="50196"/>
                  </a:srgbClr>
                </a:gs>
                <a:gs pos="100000">
                  <a:srgbClr val="eaec8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4" name="Group 28"/>
          <p:cNvGrpSpPr/>
          <p:nvPr/>
        </p:nvGrpSpPr>
        <p:grpSpPr>
          <a:xfrm>
            <a:off x="2808360" y="3500280"/>
            <a:ext cx="1066320" cy="473400"/>
            <a:chOff x="2808360" y="3500280"/>
            <a:chExt cx="1066320" cy="473400"/>
          </a:xfrm>
        </p:grpSpPr>
        <p:sp>
          <p:nvSpPr>
            <p:cNvPr id="335" name="Oval 29"/>
            <p:cNvSpPr/>
            <p:nvPr/>
          </p:nvSpPr>
          <p:spPr>
            <a:xfrm>
              <a:off x="2808360" y="3500280"/>
              <a:ext cx="1066320" cy="47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Oval 30"/>
            <p:cNvSpPr/>
            <p:nvPr/>
          </p:nvSpPr>
          <p:spPr>
            <a:xfrm>
              <a:off x="2819520" y="3503880"/>
              <a:ext cx="1031400" cy="4586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Oval 31"/>
            <p:cNvSpPr/>
            <p:nvPr/>
          </p:nvSpPr>
          <p:spPr>
            <a:xfrm>
              <a:off x="2832120" y="3506400"/>
              <a:ext cx="1007640" cy="4471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Oval 32"/>
            <p:cNvSpPr/>
            <p:nvPr/>
          </p:nvSpPr>
          <p:spPr>
            <a:xfrm>
              <a:off x="2843280" y="3510720"/>
              <a:ext cx="957960" cy="417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Oval 33"/>
            <p:cNvSpPr/>
            <p:nvPr/>
          </p:nvSpPr>
          <p:spPr>
            <a:xfrm>
              <a:off x="2899080" y="3522240"/>
              <a:ext cx="851040" cy="33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0" name="Text Box 34"/>
          <p:cNvSpPr/>
          <p:nvPr/>
        </p:nvSpPr>
        <p:spPr>
          <a:xfrm>
            <a:off x="3168000" y="3500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j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35"/>
          <p:cNvSpPr/>
          <p:nvPr/>
        </p:nvSpPr>
        <p:spPr>
          <a:xfrm>
            <a:off x="71280" y="4076640"/>
            <a:ext cx="604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$(document).ready(function()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$("#username_submit").click(function()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$.get('jqtest.cgi', {"username" : $("#username").val()}, function(data)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$('#check_result').html(data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}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}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}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47"/>
          <p:cNvSpPr/>
          <p:nvPr/>
        </p:nvSpPr>
        <p:spPr>
          <a:xfrm>
            <a:off x="5867280" y="2205000"/>
            <a:ext cx="3276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#! /usr/bin/python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import cgi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import os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form = cgi.FieldStorage()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print "Content-Type: text/html\n\n“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name = form.getvalue('username', '1'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if os.path.exists("/home/“ + name + "/"):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print "exists"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else: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print "not exists"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62"/>
          <p:cNvSpPr/>
          <p:nvPr/>
        </p:nvSpPr>
        <p:spPr>
          <a:xfrm>
            <a:off x="7125480" y="148428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G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roduction to jQuery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2006 by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John Resi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t Rochester Institute of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Query is a lightweight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JavaScript librar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hat emphasizes interaction between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JavaScrip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Query is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5"/>
              </a:rPr>
              <a:t>free, open source softwa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6"/>
              </a:rPr>
              <a:t>Dual-license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under the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7"/>
              </a:rPr>
              <a:t>MIT Licen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the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8"/>
              </a:rPr>
              <a:t>GNU General Public Lice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web developers to create simple pieces of interaction without being forced to write long, complex, book-length pieces of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P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limitation of same origin requ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: &lt;script&gt; elements are not constrain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&lt;script&gt; to retrieve JavaScript code that operates on dynamically generated JSON-formatted data from other orig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P Mechanis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request to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ttp://server/User?Id=123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{"Name": “Pippo", "Id" : 1234, "Rank": 7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arameter to requ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&lt;script type="text/javascript" src="http://server/User?UserId=1234&amp;jsonp=parseRespo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&gt; &lt;/script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the answer becom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ingoe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ingoes Unicode"/>
              </a:rPr>
              <a:t>parseResponse({"Name": "Foo", "Id" : 1234, "Rank": 7}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SONP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Query.getJSON("http://search.twitter.com/search.json?callback=?"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q: "Arsenal“ }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(tweets) 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Handle response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e.info("Twitter returned: ", tweet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ss-Origin Resource Sha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3C spec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cross-domain communication from the brows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XMLHttpRequ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by some brows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RS 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Create the XHR obj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createCORSRequest(method, url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xhr = new XMLHttpRequest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"withCredentials" in xhr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XHR for Chrome/Safari/Firefo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hr.open(method, url, true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typeof XDomainRequest != "undefined"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XDomainRequest for I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hr = new XDomainRequest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hr.open(method, url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// CORS not suppor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hr = nul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xhr; }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 xhr = createCORSRequest('GET', url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(!xhr) { throw new Error('CORS not supported'); }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hr.onload = function() {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 responseText = xhr.responseText; console.log(responseText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/ process the respons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hr.onerror = function() {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le.log('There was an error!'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mbedding a Map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frame width="425" height="350" frameborder="0" scrolling="no" marginheight="0" marginwidth="0" src="http://maps.google.com/maps?f=q&amp;amp;source=s_q&amp;amp;hl=en&amp;amp;geocode=&amp;amp;q=largo+pontecorvo+3,+pisa,+italy&amp;amp;aq=&amp;amp;sll=37.0625,-95.677068&amp;amp;sspn=33.901528,36.474609&amp;amp;vpsrc=0&amp;amp;ie=UTF8&amp;amp;hq=&amp;amp;hnear=Via+Pellegrino+Pontecorvo,+3,+56121+Pisa,+Toscana,+Italy&amp;amp;t=m&amp;amp;z=14&amp;amp;ll=43.682725,10.428894&amp;amp;output=embed"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iframe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s://www.tutorialspoint.com/jquery/src/whatsnearby/index.htm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roduction to jQue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I wan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 Internet Applications (R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HTML (DHTM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I ge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www.jquery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I learn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Query in Action by Bibeault &amp; Katz, M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Query Visual Quickstart Guide by Holzner, Peachp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www.jquery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s.jquery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www.visualjquery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www.Jqueryfordesigners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5"/>
              </a:rPr>
              <a:t>www.gscottolson.com/weblog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cheat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33"/>
                </a:solidFill>
                <a:uFillTx/>
                <a:latin typeface="Arial"/>
                <a:hlinkClick r:id="rId6"/>
              </a:rPr>
              <a:t>www.javascripttoolbox.com/jqu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3schools.com/jquery/jquery_examples.a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, installation, “Howdy World”, Ready function, DOM, Selecting and Formatting web page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 and Anim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Query Plugin libra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roduction to jQue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download the jquery-2.x.x.js file and put it in your website fo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jQu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Web Developer Express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428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at jQuery Does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267920"/>
            <a:ext cx="77724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obtrusive” JavaScrip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dding JavaScript to your web p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avaScri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easier to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cross-browser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03:18:12Z</dcterms:created>
  <dc:creator>Chris</dc:creator>
  <dc:description/>
  <dc:language>en-US</dc:language>
  <cp:lastModifiedBy>GIUSEPPE ATTARDI</cp:lastModifiedBy>
  <dcterms:modified xsi:type="dcterms:W3CDTF">2017-05-08T10:52:28Z</dcterms:modified>
  <cp:revision>86</cp:revision>
  <dc:subject/>
  <dc:title>jQuery</dc:title>
</cp:coreProperties>
</file>